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764E8-F357-4188-AF36-C955DE468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E6876-CC2C-49E7-B3BE-8892E79E3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5897-F1D5-4196-9087-2A1E5F91A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021E-B051-4B64-B59F-4C50E359B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B1BA-93AB-421D-A486-7E6818E39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2D75-BCAF-428D-8BA5-CE766C454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79B5-FDDE-410F-9261-3B9C3FA8F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6CD9-BC0F-4C97-B203-6D59E2C3B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46B0-B04E-4B85-BBCE-EE2135A97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A7EA-04C5-4D9E-BA32-5CFF817DB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CE3D-A127-4EB2-B161-9EF160359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4D40-9FF3-4D0D-86F1-B418D5AD3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740D-F7B6-4A3D-9682-9CC606448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AC58-6924-45CA-B767-AE270287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9AF99-C00A-405F-B27E-2D5CF36727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jpe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eram Awadal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380880" y="2438280"/>
            <a:ext cx="1219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Meram (244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380880" y="2666880"/>
            <a:ext cx="1219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Mera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457200" y="2895480"/>
            <a:ext cx="914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Meram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62000" y="53722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2670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181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Misba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57"/>
          <p:cNvSpPr/>
          <p:nvPr/>
        </p:nvSpPr>
        <p:spPr>
          <a:xfrm>
            <a:off x="76320" y="3618000"/>
            <a:ext cx="16761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Hola! Mi nombre es Meram. Yo vivo en New York City. Tengo 14 años. Tengo uno hermano. Soy es joven, graciosa y activa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62"/>
          <p:cNvSpPr/>
          <p:nvPr/>
        </p:nvSpPr>
        <p:spPr>
          <a:xfrm>
            <a:off x="64764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n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64"/>
          <p:cNvSpPr/>
          <p:nvPr/>
        </p:nvSpPr>
        <p:spPr>
          <a:xfrm>
            <a:off x="236520" y="609912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ri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6"/>
          <p:cNvSpPr/>
          <p:nvPr/>
        </p:nvSpPr>
        <p:spPr>
          <a:xfrm flipH="1">
            <a:off x="1249200" y="51307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br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7"/>
          <p:cNvSpPr/>
          <p:nvPr/>
        </p:nvSpPr>
        <p:spPr>
          <a:xfrm>
            <a:off x="2743200" y="38862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Lib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Hola! </a:t>
            </a:r>
            <a:r>
              <a:rPr b="0" lang="es-ES" sz="900" spc="-1" strike="noStrike">
                <a:solidFill>
                  <a:srgbClr val="343434"/>
                </a:solidFill>
                <a:latin typeface="Arial"/>
              </a:rPr>
              <a:t>¿L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o que está arriba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7"/>
          <p:cNvSpPr/>
          <p:nvPr/>
        </p:nvSpPr>
        <p:spPr>
          <a:xfrm>
            <a:off x="2752560" y="3200400"/>
            <a:ext cx="387684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Manisha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343434"/>
                </a:solidFill>
                <a:latin typeface="Arial"/>
              </a:rPr>
              <a:t>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343434"/>
                </a:solidFill>
                <a:latin typeface="Arial"/>
              </a:rPr>
              <a:t>Buenas tardes. ¿Quieres hacer soemthing este fin de semana?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Misba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 amiga!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2747880" y="449568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as noches mi amora!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Hablar conmigo por la mañan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743200" y="5137200"/>
            <a:ext cx="389088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Apr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Tengo que decirte algo a decir a te!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743200" y="5781600"/>
            <a:ext cx="390204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Albana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Buenas días! ¿Quieres ir a patinar sobre hielo hoy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56"/>
          <p:cNvSpPr/>
          <p:nvPr/>
        </p:nvSpPr>
        <p:spPr>
          <a:xfrm>
            <a:off x="1981080" y="1905120"/>
            <a:ext cx="198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62"/>
          <p:cNvSpPr/>
          <p:nvPr/>
        </p:nvSpPr>
        <p:spPr>
          <a:xfrm>
            <a:off x="703440" y="6095880"/>
            <a:ext cx="497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ba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photo-1.jpeg"/>
          <p:cNvPicPr/>
          <p:nvPr/>
        </p:nvPicPr>
        <p:blipFill>
          <a:blip r:embed="rId1"/>
          <a:stretch/>
        </p:blipFill>
        <p:spPr>
          <a:xfrm>
            <a:off x="712800" y="46609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photo.jpeg"/>
          <p:cNvPicPr/>
          <p:nvPr/>
        </p:nvPicPr>
        <p:blipFill>
          <a:blip r:embed="rId2"/>
          <a:stretch/>
        </p:blipFill>
        <p:spPr>
          <a:xfrm>
            <a:off x="203040" y="4657680"/>
            <a:ext cx="422280" cy="46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8" descr=""/>
          <p:cNvPicPr/>
          <p:nvPr/>
        </p:nvPicPr>
        <p:blipFill>
          <a:blip r:embed="rId3"/>
          <a:stretch/>
        </p:blipFill>
        <p:spPr>
          <a:xfrm>
            <a:off x="2106720" y="2514600"/>
            <a:ext cx="512640" cy="5284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0" descr="C:\Users\Unicorns are Cool\Downloads\behappy_dontworry on Instagram_files\profile_33995694_75sq_1352944363.jpg"/>
          <p:cNvPicPr/>
          <p:nvPr/>
        </p:nvPicPr>
        <p:blipFill>
          <a:blip r:embed="rId4"/>
          <a:stretch/>
        </p:blipFill>
        <p:spPr>
          <a:xfrm>
            <a:off x="468360" y="1432080"/>
            <a:ext cx="981000" cy="981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1" descr=""/>
          <p:cNvPicPr/>
          <p:nvPr/>
        </p:nvPicPr>
        <p:blipFill>
          <a:blip r:embed="rId5"/>
          <a:stretch/>
        </p:blipFill>
        <p:spPr>
          <a:xfrm>
            <a:off x="2133720" y="3200400"/>
            <a:ext cx="485640" cy="485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3" descr="C:\Users\Unicorns are Cool\Downloads\apessssss_ on Instagram_files\c2ca73f2359311e29b2522000a9f13d5_7.jpg"/>
          <p:cNvPicPr/>
          <p:nvPr/>
        </p:nvPicPr>
        <p:blipFill>
          <a:blip r:embed="rId6"/>
          <a:stretch/>
        </p:blipFill>
        <p:spPr>
          <a:xfrm>
            <a:off x="203040" y="5486400"/>
            <a:ext cx="476280" cy="588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4" descr="C:\Users\Unicorns are Cool\Downloads\_mermaidinspired on Instagram_files\profile_17452405_75sq_1354473962.jpg"/>
          <p:cNvPicPr/>
          <p:nvPr/>
        </p:nvPicPr>
        <p:blipFill>
          <a:blip r:embed="rId7"/>
          <a:stretch/>
        </p:blipFill>
        <p:spPr>
          <a:xfrm>
            <a:off x="1249200" y="4657680"/>
            <a:ext cx="462240" cy="4478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5" descr=""/>
          <p:cNvPicPr/>
          <p:nvPr/>
        </p:nvPicPr>
        <p:blipFill>
          <a:blip r:embed="rId8"/>
          <a:stretch/>
        </p:blipFill>
        <p:spPr>
          <a:xfrm>
            <a:off x="2133720" y="3886200"/>
            <a:ext cx="463320" cy="450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7" descr=""/>
          <p:cNvPicPr/>
          <p:nvPr/>
        </p:nvPicPr>
        <p:blipFill>
          <a:blip r:embed="rId9"/>
          <a:stretch/>
        </p:blipFill>
        <p:spPr>
          <a:xfrm>
            <a:off x="2138400" y="5130720"/>
            <a:ext cx="480960" cy="513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8" descr="C:\Users\Unicorns are Cool\Downloads\xobanaaxo on Instagram_files\640e37a8286511e2a76e22000a9f1968_7.jpg"/>
          <p:cNvPicPr/>
          <p:nvPr/>
        </p:nvPicPr>
        <p:blipFill>
          <a:blip r:embed="rId10"/>
          <a:stretch/>
        </p:blipFill>
        <p:spPr>
          <a:xfrm>
            <a:off x="762120" y="5486400"/>
            <a:ext cx="371520" cy="593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9" descr=""/>
          <p:cNvPicPr/>
          <p:nvPr/>
        </p:nvPicPr>
        <p:blipFill>
          <a:blip r:embed="rId11"/>
          <a:stretch/>
        </p:blipFill>
        <p:spPr>
          <a:xfrm>
            <a:off x="2217600" y="5722920"/>
            <a:ext cx="37152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nicorns are Cool</cp:lastModifiedBy>
  <dcterms:modified xsi:type="dcterms:W3CDTF">2012-12-06T02:22:50Z</dcterms:modified>
  <cp:revision>110</cp:revision>
  <dc:subject/>
  <dc:title>Profile</dc:title>
</cp:coreProperties>
</file>